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3BB8-1BCF-4DCB-876A-2D747B4A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9826-33F8-4FB0-9727-4E15AA7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7D6D-BA54-4E12-9043-7B4080F4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1CDF-F434-44FF-BE42-CE0BDC3C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EFDD-7B39-484B-9807-F3B94FAE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2BA-0852-4AC5-A2C2-469C99D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21C4-728B-460F-8019-C2880F5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FFFF-B690-4A57-B8A0-5FC1B15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AB9D-CA68-49C7-BB70-42AC6F04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D3A-5EC9-4660-AB2D-4B80826F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F05B-2AFB-4E7D-83B3-C7AB591B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091E-C930-4FBE-97E5-AC134BCA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EFF-3CE6-4DF0-93D3-AF91E55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6A53-EE9C-4A23-93CC-396514D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1FD9-445A-4E50-AB05-D4B601E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BE0A-B717-4341-94DE-3ED9FBD8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10F0-5A42-4820-BB78-BEC7CE3D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C528-CB39-478E-9AF0-C863D257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C470-FD32-4EEB-B4B0-F625A360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5CAF-CF85-4440-9619-459EE1F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D39B-A597-42C8-AA54-0FEDE11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FAC5-9EB3-4890-9323-BAB8410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C849-51C5-4C0A-BE1E-02AACFF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7498-B97A-417D-BD8D-FDC4CFC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E366-5DC8-47A5-B187-EB1E2CFDF7C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DDCC-0737-4D72-9838-E5E977DEAC9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53460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 (626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В Кого съм аз повярвал, зна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Исуса, Сина Бож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ук с вяра ходя и със пл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а вреди враг не може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идя там, ще вярвам ту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ще чуя и небесний звук,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вляза в радост чудн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850320"/>
            <a:ext cx="1008216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Животът ми е тука бо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о чака ме корона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лаженство вечно и пок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 моя Бог пред трон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з, кой и смърт прие за мен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[: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криле Си крий ме ден след ден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  <a:ea typeface="Arial"/>
              </a:rPr>
              <a:t>:]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може ме повред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836280"/>
            <a:ext cx="95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Върни ме, Господи, мой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т светските дела, шум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ъм Тебе всеки ден и час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егли сърце и разум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Светът със свойта слава, грях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[: ще стане в миг на пепел, прах, :]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а в Теб живот е вечен!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12-07-06T16:00:49Z</dcterms:modified>
  <cp:revision>149</cp:revision>
  <dc:subject/>
  <dc:title>Slide 1</dc:title>
</cp:coreProperties>
</file>